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809-283D-46F6-96D5-AEB3B2B5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265-1874-425E-AE05-5CCB7BF5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D8B-5CDE-4EB4-8287-0D8A8E04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5F5-C37A-4D46-9EE4-8B5A835B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911E-28E1-4AEF-81DC-870BA63A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8CFB-3CF3-4DD0-9515-E2075BEB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EA3F-48A6-4B64-B124-C572D59E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82CA-B520-4FFF-91A7-F7B54F15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0B8B-70E2-4895-81AB-55AE7604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B3EA-DD13-42D2-92BF-676AA095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DC6D-E3CA-4FA5-8D55-5CAE4FE2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BFB-A579-4CFD-8152-2AD8628C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CDA8-6683-4CF5-952E-2E51D8C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6ECF-0835-4B95-99ED-0015203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5FE9-E78B-46B3-BBE1-BF10957A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67D7-2D3A-4774-B7DD-2DF6C210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6B1C-7EBB-470B-8D58-0DB9B957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AE5F-34F4-4C42-B40E-2FB6B67A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4DA2-7D10-416B-9720-ABBD04F0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DA8B-D26C-48D2-A859-56E29418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3F14-8EC0-408B-A7B2-8F7EFF7B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54F0-246D-439D-A165-7741509D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7C4-0A0A-49E6-9D4A-0A93771F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8022-389B-4865-B028-E8A4F3C4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F49F-1F56-4090-9709-3BC3B3F0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5E85-97B4-496C-9757-81BD1114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BCD4-52F8-4125-9EAE-30F50C5F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0093-F312-40CE-82DA-34AC6837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9FB5-FA8E-4BDE-A412-1C7C437E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685E7-F1BA-45DA-A8CC-F0BBD9AF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F98A-5728-4454-87FF-F06BBD5C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FC7BB-27A6-4266-84A1-DE32FAB7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889F-109F-4B8C-94DE-AABC7D05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3F0-92A4-4F81-81F7-2C8F01E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23BDA-E11D-4841-B31D-23F3FEF9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DE38-9407-4AEE-826F-6A1DE1BB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167C-E209-4DD1-8D54-AA4D92B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D536-FEF2-4E31-8810-2A4874C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1F5C-D3D1-4C80-975B-174DB288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9B886-721E-45B9-B42A-5F9987C9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0280-97C6-4457-BAFF-F084D812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89674-C0C8-4BE1-8461-D8023406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1ECD-BBE1-49F5-84DA-5D9EA815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4B72-86F6-4D7C-B31C-5278FD86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DFD-9C78-457B-BE47-840870F9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63ECF-3729-48CD-9223-1D3D60F5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CACA7-9679-4626-977B-061447FD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C78B2-7849-4E8A-9F2E-36632882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DF75-03E4-49FC-9BF1-BEE32758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212A4-F631-444F-AEE0-4550819C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80457-2BE7-4956-91AD-486EADB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522EE-326F-4363-BA21-FC10D58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F600-23B3-44FC-839C-FF39DFC9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85C96-81AF-4406-9D7F-5A70AF5A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C0535-FBA1-4355-81B0-2E1A47E3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F21-F8C8-4D75-88C7-4EBB6752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0841D-F6F3-4770-A619-C5B24F47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44AD8-1367-4E4E-A7A1-C70C6CFA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B2581-36E1-4AC0-B228-C618B2AB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A876B-3E55-438F-84A6-34707D57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49771-F8E7-4B71-A038-A9B77E36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1D0DB-0FD1-40F5-ACA0-FB83DA3F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F135A-EA28-46D9-9BD6-24DA9BE2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7B5CE-6676-4D54-BAA3-44391C1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60A63-1BDC-4524-A02F-55B93E5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8D4BF-8362-4E6B-8C21-6511F8EB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909-E845-47BE-B555-F52E9F03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008EA-3924-4025-BA99-78E9A312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ED1DB-C98F-4116-9287-A4D75467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2A1B4-20DA-4811-B959-ED3C0CB7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A5DA5-E057-421F-94CF-B1F13F06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B0C13-5702-4049-8FB9-917C7441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65A4B-2FD6-4706-A5D8-C6425440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DE886-FFDB-4DAF-941E-9E5FDC18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00394-2599-43F4-8DBF-F40FD240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01EDC-EA41-45C1-8D86-B6E732A4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0A243-6BD5-403A-A942-6693D0EF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B38-5E1F-4C27-B946-6F2901AE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E81F8-C80A-4DF7-9F5E-86AD1350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E4E70-D582-49AF-AC08-6189B212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D7E19-DC64-45B3-836A-20DE2544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41395-BE3B-4BF5-AA76-4FB16636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13789-10B9-4150-A1F6-C6DC2336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D01-CF2B-4DFC-88CE-B9DE5F33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E5E3-574A-4D6A-9673-B79CD9D307F4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526db0">
              <a:alpha val="70000"/>
            </a:srgbClr>
          </a:solidFill>
          <a:ln w="648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3d3d3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A145-95B9-4EDC-AF20-E997A4C44A22}" type="slidenum">
              <a:rPr b="0" lang="en-US" sz="2800" spc="-1" strike="noStrike">
                <a:solidFill>
                  <a:srgbClr val="3d3d3d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5BFD-105E-42E8-8C78-E7720715B69B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1B44-6DE9-4896-966B-15A898CDF95E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FACA-2542-4339-872B-F92573969F2E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3D33-0DA1-41FD-AC65-0605C738D572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BE97-64AB-4CB6-93BE-70B452DEF172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c201"/>
                </a:solidFill>
                <a:latin typeface="Century Gothic"/>
              </a:rPr>
              <a:t>EXPLAINING DIFFERENCES/ EXPLAINING SIMILARITIES</a:t>
            </a:r>
            <a:endParaRPr b="0" lang="en-US" sz="18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d3d3d"/>
                </a:solidFill>
                <a:latin typeface="Book Antiqua"/>
              </a:rPr>
              <a:t>NATURE VS NURTURE</a:t>
            </a:r>
            <a:endParaRPr b="0" lang="en-US" sz="4000" spc="-1" strike="noStrike">
              <a:solidFill>
                <a:srgbClr val="5c5c5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Content Placeholder 3" descr=""/>
          <p:cNvPicPr/>
          <p:nvPr/>
        </p:nvPicPr>
        <p:blipFill>
          <a:blip r:embed="rId1"/>
          <a:stretch/>
        </p:blipFill>
        <p:spPr>
          <a:xfrm>
            <a:off x="3718080" y="1295280"/>
            <a:ext cx="500220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68240" y="2971800"/>
            <a:ext cx="2298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282e"/>
              </a:solidFill>
              <a:latin typeface="Century Gothic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entury Gothic"/>
              </a:rPr>
              <a:t>The Minnesota Twin Study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768240" y="1733400"/>
            <a:ext cx="2298960" cy="119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Book Antiqua"/>
              </a:rPr>
              <a:t>IDENTICAL TWINS REARED APART…</a:t>
            </a:r>
            <a:endParaRPr b="0" lang="en-US" sz="2000" spc="-1" strike="noStrike">
              <a:solidFill>
                <a:srgbClr val="5c5c5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768240" y="2895480"/>
            <a:ext cx="2298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d"/>
                </a:solidFill>
                <a:latin typeface="Century Gothic"/>
              </a:rPr>
              <a:t>Characteristics more similar to biological parents..</a:t>
            </a:r>
            <a:endParaRPr b="0" lang="en-US" sz="1600" spc="-1" strike="noStrike">
              <a:solidFill>
                <a:srgbClr val="d1282e"/>
              </a:solidFill>
              <a:latin typeface="Century Gothic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d"/>
                </a:solidFill>
                <a:latin typeface="Century Gothic"/>
              </a:rPr>
              <a:t>With some exceptions.. Faith, values, manners, attitude.</a:t>
            </a:r>
            <a:endParaRPr b="0" lang="en-US" sz="16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768240" y="1733400"/>
            <a:ext cx="2298960" cy="119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82e"/>
                </a:solidFill>
                <a:latin typeface="Book Antiqua"/>
              </a:rPr>
              <a:t>ADOPTION STUDIES</a:t>
            </a:r>
            <a:endParaRPr b="0" lang="en-US" sz="2800" spc="-1" strike="noStrike">
              <a:solidFill>
                <a:srgbClr val="5c5c5c"/>
              </a:solidFill>
              <a:latin typeface="Book Antiqua"/>
            </a:endParaRPr>
          </a:p>
        </p:txBody>
      </p:sp>
      <p:pic>
        <p:nvPicPr>
          <p:cNvPr id="366" name="Content Placeholder 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2177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82e"/>
                </a:solidFill>
                <a:latin typeface="Book Antiqua"/>
              </a:rPr>
              <a:t>YOUR “GENETIC” OR “CORE” OF YOUR PERSONALITY</a:t>
            </a:r>
            <a:br>
              <a:rPr sz="2800"/>
            </a:br>
            <a:r>
              <a:rPr b="1" lang="en-US" sz="2800" spc="-1" strike="noStrike">
                <a:solidFill>
                  <a:srgbClr val="d1282e"/>
                </a:solidFill>
                <a:latin typeface="Book Antiqua"/>
              </a:rPr>
              <a:t>IS YOUR TEMPERAMENT</a:t>
            </a:r>
            <a:endParaRPr b="0" lang="en-US" sz="28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0880" y="16765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The Easy child 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The Difficult child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The Slow-to-warm-up child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83659"/>
                </a:solidFill>
                <a:uFillTx/>
                <a:latin typeface="Century Gothic"/>
              </a:rPr>
              <a:t>What works best?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Parent/Child-Goodness-of-fit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Life is like a game of cards.  The hand that is dealt you presents determinism; the way you play it is free will.”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Nehru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Content Placeholder 5" descr=""/>
          <p:cNvPicPr/>
          <p:nvPr/>
        </p:nvPicPr>
        <p:blipFill>
          <a:blip r:embed="rId1"/>
          <a:stretch/>
        </p:blipFill>
        <p:spPr>
          <a:xfrm>
            <a:off x="3505320" y="2730600"/>
            <a:ext cx="3900240" cy="2936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68240" y="2971800"/>
            <a:ext cx="2298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82e"/>
                </a:solidFill>
                <a:latin typeface="Century Gothic"/>
              </a:rPr>
              <a:t>    </a:t>
            </a:r>
            <a:r>
              <a:rPr b="1" lang="en-US" sz="2800" spc="-1" strike="noStrike">
                <a:solidFill>
                  <a:srgbClr val="d1282e"/>
                </a:solidFill>
                <a:latin typeface="Century Gothic"/>
              </a:rPr>
              <a:t>Nurture</a:t>
            </a: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768240" y="1219320"/>
            <a:ext cx="296568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600"/>
            </a:br>
            <a:r>
              <a:rPr b="1" lang="en-US" sz="1600" spc="-1" strike="noStrike">
                <a:solidFill>
                  <a:srgbClr val="5c5c5c"/>
                </a:solidFill>
                <a:latin typeface="Book Antiqua"/>
              </a:rPr>
              <a:t>THE ENVIRONMENT (AND OUR EXPERIENCES) SHAPE US…</a:t>
            </a:r>
            <a:br>
              <a:rPr sz="1600"/>
            </a:br>
            <a:endParaRPr b="0" lang="en-US" sz="1600" spc="-1" strike="noStrike">
              <a:solidFill>
                <a:srgbClr val="5c5c5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5c5c"/>
                </a:solidFill>
                <a:latin typeface="Book Antiqua"/>
              </a:rPr>
              <a:t>NATURE ENABLES NURTURE</a:t>
            </a:r>
            <a:br>
              <a:rPr sz="3200"/>
            </a:br>
            <a:r>
              <a:rPr b="1" lang="en-US" sz="3200" spc="-1" strike="noStrike">
                <a:solidFill>
                  <a:srgbClr val="5c5c5c"/>
                </a:solidFill>
                <a:latin typeface="Book Antiqua"/>
              </a:rPr>
              <a:t>AND NURTURE ENABLES NATURE</a:t>
            </a:r>
            <a:endParaRPr b="0" lang="en-US" sz="32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1282e"/>
                </a:solidFill>
                <a:uFillTx/>
                <a:latin typeface="Century Gothic"/>
              </a:rPr>
              <a:t>Critical Period: </a:t>
            </a:r>
            <a:r>
              <a:rPr b="1" lang="en-US" sz="3200" spc="-1" strike="noStrike">
                <a:solidFill>
                  <a:srgbClr val="d1282e"/>
                </a:solidFill>
                <a:latin typeface="Century Gothic"/>
              </a:rPr>
              <a:t>An important time in development where development needs to happen or it will be delayed or dysfunctional </a:t>
            </a: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1282e"/>
                </a:solidFill>
                <a:uFillTx/>
                <a:latin typeface="Century Gothic"/>
              </a:rPr>
              <a:t>Prenatal influences:  </a:t>
            </a:r>
            <a:r>
              <a:rPr b="1" lang="en-US" sz="3200" spc="-1" strike="noStrike">
                <a:solidFill>
                  <a:srgbClr val="d1282e"/>
                </a:solidFill>
                <a:latin typeface="Century Gothic"/>
              </a:rPr>
              <a:t>German measles, birth defects, teratogens, fetal alcohol syndrome </a:t>
            </a: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1282e"/>
                </a:solidFill>
                <a:uFillTx/>
                <a:latin typeface="Century Gothic"/>
              </a:rPr>
              <a:t>Culture:</a:t>
            </a:r>
            <a:r>
              <a:rPr b="1" lang="en-US" sz="3200" spc="-1" strike="noStrike">
                <a:solidFill>
                  <a:srgbClr val="d1282e"/>
                </a:solidFill>
                <a:latin typeface="Century Gothic"/>
              </a:rPr>
              <a:t> Establish their own norms</a:t>
            </a: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Book Antiqua"/>
              </a:rPr>
              <a:t>EXPERIENCE AND BRAIN DEVELOPMENT… IT’S COMPLICATED</a:t>
            </a:r>
            <a:endParaRPr b="0" lang="en-US" sz="32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283659"/>
                </a:solidFill>
                <a:uFillTx/>
                <a:latin typeface="Century Gothic"/>
              </a:rPr>
              <a:t>Impoverished Environment 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5160" y="2438280"/>
            <a:ext cx="4040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282e"/>
                </a:solidFill>
                <a:latin typeface="Century Gothic"/>
              </a:rPr>
              <a:t>The Somerville Project</a:t>
            </a: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283659"/>
                </a:solidFill>
                <a:uFillTx/>
                <a:latin typeface="Century Gothic"/>
              </a:rPr>
              <a:t>Enriched Environment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Century Gothic"/>
              </a:rPr>
              <a:t>Abecedarian Project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BIG BOYS DON’T CRY!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2712960" y="1905120"/>
            <a:ext cx="3154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Book Antiqua"/>
              </a:rPr>
              <a:t>HOW DOES NATURE AND NURTURE INTERACT TO DEFINE US AS MALE OR FEMALE?</a:t>
            </a:r>
            <a:endParaRPr b="0" lang="en-US" sz="28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Century Gothic"/>
              </a:rPr>
              <a:t>Gender Roles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25160" y="2438280"/>
            <a:ext cx="4040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Gothic"/>
              </a:rPr>
              <a:t>A set of expected behaviors for males and for females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Century Gothic"/>
              </a:rPr>
              <a:t>Gender Identity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Gothic"/>
              </a:rPr>
              <a:t>One’s personal sense of being male or female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QUESTION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entury Gothic"/>
              </a:rPr>
              <a:t>If it were possible, would you want to take a genetic test telling you which diseases you are likely to suffer from later in life?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entury Gothic"/>
              </a:rPr>
              <a:t>If you or your partner were pregnant- would you want the unborn child tested for genetic defects?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Content Placeholder 3" descr=""/>
          <p:cNvPicPr/>
          <p:nvPr/>
        </p:nvPicPr>
        <p:blipFill>
          <a:blip r:embed="rId1"/>
          <a:stretch/>
        </p:blipFill>
        <p:spPr>
          <a:xfrm>
            <a:off x="3657600" y="838080"/>
            <a:ext cx="4195800" cy="3429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68240" y="3276360"/>
            <a:ext cx="22989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entury Gothic"/>
              </a:rPr>
              <a:t>Biological determinism 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768240" y="1523880"/>
            <a:ext cx="2298960" cy="14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1282e"/>
                </a:solidFill>
                <a:uFillTx/>
                <a:latin typeface="Book Antiqua"/>
              </a:rPr>
              <a:t>NATURE</a:t>
            </a:r>
            <a:br>
              <a:rPr sz="1600"/>
            </a:br>
            <a:r>
              <a:rPr b="1" lang="en-US" sz="1600" spc="-1" strike="noStrike">
                <a:solidFill>
                  <a:srgbClr val="d1282e"/>
                </a:solidFill>
                <a:latin typeface="Book Antiqua"/>
              </a:rPr>
              <a:t> WHEN BIOLOGY DETERMINES CHARACTERISTIC'S</a:t>
            </a:r>
            <a:endParaRPr b="0" lang="en-US" sz="1600" spc="-1" strike="noStrike">
              <a:solidFill>
                <a:srgbClr val="5c5c5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DOMINANT AND RECESSIVE GENES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The Tower of London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pic>
        <p:nvPicPr>
          <p:cNvPr id="340" name="Content Placeholder 9" descr=""/>
          <p:cNvPicPr/>
          <p:nvPr/>
        </p:nvPicPr>
        <p:blipFill>
          <a:blip r:embed="rId1"/>
          <a:stretch/>
        </p:blipFill>
        <p:spPr>
          <a:xfrm>
            <a:off x="507960" y="2895480"/>
            <a:ext cx="3813120" cy="28195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46 Books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 algn="ctr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23 donated by mother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29040" indent="-21924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23 donated by father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29040" indent="-21924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Books are Chromosomes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29040" indent="-21924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hromosomes made from dna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29040" indent="-21924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Genes are small areas of dna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29040" indent="-21924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30,000 genes per chromosome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DOMINANT VS. RECESSIVE GENES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Dominant genes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25160" y="2438280"/>
            <a:ext cx="4040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Century Gothic"/>
              </a:rPr>
              <a:t>Characteristic is always present </a:t>
            </a: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Recessive genes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entury Gothic"/>
              </a:rPr>
              <a:t>Two recessive genes must be paired in order for the characteristic to be presen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d1e23"/>
                </a:solidFill>
                <a:latin typeface="Book Antiqua"/>
              </a:rPr>
              <a:t>CONSIDER DOLLY….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pic>
        <p:nvPicPr>
          <p:cNvPr id="349" name="Content Placeholder 3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059280" cy="360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282e"/>
                </a:solidFill>
                <a:latin typeface="Century Gothic"/>
              </a:rPr>
              <a:t>Would a human clone’s adult personality mimic the person donating the genetic code?</a:t>
            </a: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282e"/>
                </a:solidFill>
                <a:latin typeface="Century Gothic"/>
              </a:rPr>
              <a:t>               </a:t>
            </a:r>
            <a:r>
              <a:rPr b="0" lang="en-US" sz="2800" spc="-1" strike="noStrike">
                <a:solidFill>
                  <a:srgbClr val="d1282e"/>
                </a:solidFill>
                <a:latin typeface="Century Gothic"/>
              </a:rPr>
              <a:t>or</a:t>
            </a: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282e"/>
                </a:solidFill>
                <a:latin typeface="Century Gothic"/>
              </a:rPr>
              <a:t>Would he/she be unique?</a:t>
            </a: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Book Antiqua"/>
              </a:rPr>
              <a:t>HEREDITY=WHEN BIOLOGY DETERMINES CHARACTERISTICS</a:t>
            </a:r>
            <a:endParaRPr b="0" lang="en-US" sz="32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Genetic Predisposition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5160" y="2437920"/>
            <a:ext cx="4040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Humans are born with a likelihood toward certain characteristics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Does not mean “Born with”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Usually needs something from the environment to activate- (diathesis-stress model)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Common genetic predispositions….body weight-alcoholism-Alzheimer’s-Schizophrenia 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Genetic Determinism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The idea that genes determine characteristics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Genotype= “full” heredity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Phenotype= “observed” properties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Common genetic abnormalities.. Down Syndrome, Williams Syndrome, Color blindness, PKU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5c5c"/>
                </a:solidFill>
                <a:latin typeface="Book Antiqua"/>
              </a:rPr>
              <a:t>HOW DO GENES AND THE ENVIRONMENT  INTERACT?</a:t>
            </a:r>
            <a:endParaRPr b="0" lang="en-US" sz="3200" spc="-1" strike="noStrike">
              <a:solidFill>
                <a:srgbClr val="5c5c5c"/>
              </a:solidFill>
              <a:latin typeface="Book Antiqua"/>
            </a:endParaRPr>
          </a:p>
        </p:txBody>
      </p:sp>
      <p:pic>
        <p:nvPicPr>
          <p:cNvPr id="357" name="Content Placeholder 8" descr=""/>
          <p:cNvPicPr/>
          <p:nvPr/>
        </p:nvPicPr>
        <p:blipFill>
          <a:blip r:embed="rId1"/>
          <a:stretch/>
        </p:blipFill>
        <p:spPr>
          <a:xfrm>
            <a:off x="444600" y="2743200"/>
            <a:ext cx="413388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Century Gothic"/>
              </a:rPr>
              <a:t>PKU= Phenylketonuria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d3d"/>
                </a:solidFill>
                <a:latin typeface="Century Gothic"/>
              </a:rPr>
              <a:t>Occurs when parents pass along a defective gene</a:t>
            </a: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67c7f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1282e"/>
                </a:solidFill>
                <a:latin typeface="Century Gothic"/>
              </a:rPr>
              <a:t>How Similar Are We?</a:t>
            </a:r>
            <a:endParaRPr b="0" lang="en-US" sz="54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1282e"/>
                </a:solidFill>
                <a:latin typeface="Century Gothic"/>
              </a:rPr>
              <a:t>How do we know?</a:t>
            </a:r>
            <a:endParaRPr b="0" lang="en-US" sz="54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8:45:29Z</dcterms:created>
  <dc:creator>Nancy Donlon</dc:creator>
  <dc:description/>
  <dc:language>en-US</dc:language>
  <cp:lastModifiedBy>Stephanie Hein Phillips</cp:lastModifiedBy>
  <cp:lastPrinted>2013-10-21T17:24:28Z</cp:lastPrinted>
  <dcterms:modified xsi:type="dcterms:W3CDTF">2014-08-19T13:41:08Z</dcterms:modified>
  <cp:revision>31</cp:revision>
  <dc:subject/>
  <dc:title>Nature VS nurture</dc:title>
</cp:coreProperties>
</file>